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1AF-A250-401F-B26D-48C707A9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A1B-5E2C-4601-8C0C-B12DF463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901-2EF6-492F-AF8E-0685124B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273-AA43-4F8D-B8D6-BFB3CCE6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459-F924-4132-8A1C-BE899FD3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02B-146C-484F-8BB3-32411244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5F6-4194-4FED-A86C-D94595F2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BF8-2A13-4699-AAAF-A9B5A395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652-20CA-4E75-82B1-BB3C9ED5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AFD-AD9C-40F4-B29F-0B839607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AEB-14AF-4D73-ABAC-2901F2F8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72B-3386-45D6-9844-8D26C33D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3178-E284-43CF-9859-C99CC14A9A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4000" y="1052640"/>
            <a:ext cx="8135640" cy="505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Kristen ITC"/>
              </a:rPr>
              <a:t>EXEMPLE </a:t>
            </a:r>
            <a:r>
              <a:rPr b="1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onjour  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Salut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            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Au revoir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1908000" y="115920"/>
            <a:ext cx="4753080" cy="647640"/>
          </a:xfrm>
          <a:prstGeom prst="wedgeEllipseCallout">
            <a:avLst>
              <a:gd name="adj1" fmla="val -57546"/>
              <a:gd name="adj2" fmla="val 7009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Trouvez les mots associ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62440" y="465300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vez-vous des ciseau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486480" y="206064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vais au ci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018200" y="45813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373560" y="22050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Vingt-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392000" y="3213000"/>
            <a:ext cx="255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e voudrais de la co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39920" y="30686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rc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488840" y="63086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Deux heures moins cin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5383800" y="558972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’aimerais visiter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255560" y="1773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’aime les m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404880" y="53737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Trente-h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78840" y="3933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e vais à la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7983360" y="62373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7205040" y="31417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Quator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721320" y="39337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vais aller à l’é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7058160" y="386064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C’est gé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460240" y="2852640"/>
            <a:ext cx="1695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Une heure 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445320" y="566100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préfère le franç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496800" y="6164280"/>
            <a:ext cx="172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joue au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326448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’adore le gall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5672160" y="479736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304920" y="1700280"/>
            <a:ext cx="2975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peux aller aux toilet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1908000" y="4941720"/>
            <a:ext cx="1428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do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813600" y="242100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veux voy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4986720" y="2708280"/>
            <a:ext cx="18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C’est ennuyeux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"/>
          <p:cNvSpPr/>
          <p:nvPr/>
        </p:nvSpPr>
        <p:spPr>
          <a:xfrm>
            <a:off x="1836720" y="1989000"/>
            <a:ext cx="5111640" cy="251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Kristen ITC"/>
              </a:rPr>
              <a:t>Trouvez 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Kristen ITC"/>
              </a:rPr>
              <a:t>phrases simil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0"/>
            <a:ext cx="4427640" cy="10526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aller à l’étr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427640" y="0"/>
            <a:ext cx="4716360" cy="10526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La physique,c’est ennu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3933720"/>
            <a:ext cx="4427640" cy="936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mes proj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pour l’a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1052640"/>
            <a:ext cx="4427640" cy="936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ime beaucoup 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427640" y="2997360"/>
            <a:ext cx="4716360" cy="93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i l’intention d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1989000"/>
            <a:ext cx="4429080" cy="1008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déteste les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427640" y="1052640"/>
            <a:ext cx="4716360" cy="93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dore  jouer au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4427640" y="1989000"/>
            <a:ext cx="4716360" cy="100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vais apprendre une lan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étrangère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0" y="2997360"/>
            <a:ext cx="4427640" cy="936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est trois heures et d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4427640" y="4869000"/>
            <a:ext cx="4716360" cy="1179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est quinze heures t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4427640" y="3933720"/>
            <a:ext cx="4716360" cy="93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visiter un autre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0" y="4869000"/>
            <a:ext cx="4427640" cy="1081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ma passion c’est le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0" y="5965920"/>
            <a:ext cx="4427640" cy="8920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vais étudier le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464000" y="5923080"/>
            <a:ext cx="4680000" cy="9349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dore la 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4427640" cy="10526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aller à l’étr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4427640" y="0"/>
            <a:ext cx="4716360" cy="981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visiter un autre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052640"/>
            <a:ext cx="4427640" cy="936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ime beaucoup 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464000" y="981000"/>
            <a:ext cx="4680000" cy="93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dore la 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0" y="1989000"/>
            <a:ext cx="4429080" cy="1008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déteste les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427640" y="1916280"/>
            <a:ext cx="4716360" cy="1052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La physique,c’est ennu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0" y="2997360"/>
            <a:ext cx="4427640" cy="936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est trois heures et d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4427640" y="2997360"/>
            <a:ext cx="4716360" cy="93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est quinze heures t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3933720"/>
            <a:ext cx="4427640" cy="936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mes proj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pour l’a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427640" y="3933720"/>
            <a:ext cx="4716360" cy="936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i l’intention d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0" y="4869000"/>
            <a:ext cx="4427640" cy="1081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ma passion c’est le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4427640" y="4941720"/>
            <a:ext cx="4716360" cy="1008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dore  jouer au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0" y="5965920"/>
            <a:ext cx="4427640" cy="8920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vais étudier le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4427640" y="5850000"/>
            <a:ext cx="4716360" cy="1008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vais apprendre une lan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étrangère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79280" y="274680"/>
          <a:ext cx="8425080" cy="6334200"/>
        </p:xfrm>
        <a:graphic>
          <a:graphicData uri="http://schemas.openxmlformats.org/drawingml/2006/table">
            <a:tbl>
              <a:tblPr/>
              <a:tblGrid>
                <a:gridCol w="1685880"/>
                <a:gridCol w="1684440"/>
                <a:gridCol w="1684440"/>
                <a:gridCol w="1684440"/>
                <a:gridCol w="1685880"/>
              </a:tblGrid>
              <a:tr h="1054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Saes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w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e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tu al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ysg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me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bach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gwe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n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Mehe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ngar</a:t>
                      </a: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Calibri"/>
                        </a:rPr>
                        <a:t>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wnin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nol dy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anobeithi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anghof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sia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gada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Pren mes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yn a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toi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defnyddi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penwyth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llyg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d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Quel est le mot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79280" y="274680"/>
          <a:ext cx="8713800" cy="6334200"/>
        </p:xfrm>
        <a:graphic>
          <a:graphicData uri="http://schemas.openxmlformats.org/drawingml/2006/table">
            <a:tbl>
              <a:tblPr/>
              <a:tblGrid>
                <a:gridCol w="1743120"/>
                <a:gridCol w="1641600"/>
                <a:gridCol w="1843200"/>
                <a:gridCol w="1742760"/>
                <a:gridCol w="174312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Angl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Saes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Bat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w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Cuis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e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Deh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tu al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Ec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ysg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F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me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Garç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bach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Hô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gaea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Infirm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n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Ju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Mehe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Kangour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ngar</a:t>
                      </a: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Calibri"/>
                        </a:rPr>
                        <a:t>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Lendem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y diwrnod olynn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Mi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nol dy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N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anobeithi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Oub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anghof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ar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sia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Qui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gada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Règ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gwybodae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Sou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yn a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Toilet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Toi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U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defnyddi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oi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penwyth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Y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llyg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Zé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d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Solu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5"/>
          <p:cNvSpPr/>
          <p:nvPr/>
        </p:nvSpPr>
        <p:spPr>
          <a:xfrm>
            <a:off x="2340000" y="260280"/>
            <a:ext cx="6624720" cy="619308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Sialens berf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dominos_white_lg_clr_me"/>
          <p:cNvPicPr/>
          <p:nvPr/>
        </p:nvPicPr>
        <p:blipFill>
          <a:blip r:embed="rId1"/>
          <a:stretch/>
        </p:blipFill>
        <p:spPr>
          <a:xfrm>
            <a:off x="250920" y="1341360"/>
            <a:ext cx="33843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-27000"/>
            <a:ext cx="9144000" cy="67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regard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edrych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offr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ynni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goûter                   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lasu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écou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rando 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voyag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                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teithio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               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écouvr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      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arganfo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uiv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ilyn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e repos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orffwy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mang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wyta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rendre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ymry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avo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ybod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ouvo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medru/gall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boi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yfed 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im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hoff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roug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erbyn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épens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ari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’amus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mwynhau’ch hunan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vo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od gyda/ca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êt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o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evo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orfo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rentr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ychwely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arl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siara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’ennuyer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iflas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ppréci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erthfawrog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trouv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ffeindio/darganfo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naît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ael eich ge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chang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newi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or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isgo/car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connaît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adnabod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enregistr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record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entend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lywe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dor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ar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forc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orfodi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essay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eis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erd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olli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e passionn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od yn frwd d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onn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rhoi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répond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at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e maquill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rhoi colur arno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dmir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edmyg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id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helpu/cynorthwyo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écri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ysgrifenn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communiqu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yfathreb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chan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an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i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weu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insis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mynn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travaill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eithio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voulo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eisia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rrê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stopio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habi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yw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étes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asa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quit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ada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’énerv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igio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référ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od yn well gen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rriv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yrraed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réuss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llwyd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organis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trefn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embê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poenyd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19280" y="-4680"/>
            <a:ext cx="2519280" cy="685800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084720" y="0"/>
            <a:ext cx="2843280" cy="685800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4"/>
          <p:cNvGrpSpPr/>
          <p:nvPr/>
        </p:nvGrpSpPr>
        <p:grpSpPr>
          <a:xfrm>
            <a:off x="1979640" y="115920"/>
            <a:ext cx="7129440" cy="6264360"/>
            <a:chOff x="1979640" y="115920"/>
            <a:chExt cx="7129440" cy="6264360"/>
          </a:xfrm>
        </p:grpSpPr>
        <p:sp>
          <p:nvSpPr>
            <p:cNvPr id="197" name="Oval 4"/>
            <p:cNvSpPr/>
            <p:nvPr/>
          </p:nvSpPr>
          <p:spPr>
            <a:xfrm>
              <a:off x="1979640" y="2205360"/>
              <a:ext cx="4824360" cy="417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5"/>
            <p:cNvSpPr/>
            <p:nvPr/>
          </p:nvSpPr>
          <p:spPr>
            <a:xfrm>
              <a:off x="4284720" y="2133720"/>
              <a:ext cx="4824360" cy="4175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9"/>
            <p:cNvSpPr/>
            <p:nvPr/>
          </p:nvSpPr>
          <p:spPr>
            <a:xfrm>
              <a:off x="2989440" y="115920"/>
              <a:ext cx="4824360" cy="4175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3641040" y="580428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Kristen ITC"/>
                </a:rPr>
                <a:t>Pass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6539760" y="587700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Kristen ITC"/>
                </a:rPr>
                <a:t>Prés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4886280" y="26064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cc00"/>
                  </a:solidFill>
                  <a:latin typeface="Kristen ITC"/>
                </a:rPr>
                <a:t>Fut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3"/>
          <p:cNvSpPr/>
          <p:nvPr/>
        </p:nvSpPr>
        <p:spPr>
          <a:xfrm>
            <a:off x="0" y="44280"/>
            <a:ext cx="38512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Tôt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éj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Hier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Il y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Tard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près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vant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emain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ernier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 la f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Parfois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Touj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Plus tard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Proch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Souvent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Maint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Longtem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Récem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Lendem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En trai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Tout à co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vant-hi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’habitu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près-mi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ujourd’h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Tous les j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en ce mo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Norma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En attend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près-demain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Sur le point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ans une minute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e temps en tem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1341360"/>
            <a:ext cx="9144000" cy="45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vez-vous des ciseaux?  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peux aller aux toilettes?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     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e voudrais de la co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Quatorze 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Vingt-six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         Trente-h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of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                  C’est ennuyeux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         C’est gé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rce que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</a:t>
            </a:r>
            <a:r>
              <a:rPr b="0" lang="fr-FR" sz="1800" spc="-1" strike="noStrike">
                <a:solidFill>
                  <a:srgbClr val="00ff00"/>
                </a:solidFill>
                <a:latin typeface="Kristen ITC"/>
              </a:rPr>
              <a:t>Car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                       Do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Une heure dix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D</a:t>
            </a:r>
            <a:r>
              <a:rPr b="0" lang="fr-FR" sz="1800" spc="-1" strike="noStrike">
                <a:solidFill>
                  <a:srgbClr val="00ff00"/>
                </a:solidFill>
                <a:latin typeface="Kristen ITC"/>
              </a:rPr>
              <a:t>eux heures moins cinq          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joue au foot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          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vais au ciné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                    Je vais à la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’adore le gallois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préfère le français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’aime les m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veux voyager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vais aller à l’étranger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J’aimerais visiter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177360" y="333360"/>
            <a:ext cx="27273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Kristen ITC"/>
              </a:rPr>
              <a:t>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/>
          <p:cNvSpPr/>
          <p:nvPr/>
        </p:nvSpPr>
        <p:spPr>
          <a:xfrm>
            <a:off x="1763640" y="1125360"/>
            <a:ext cx="5977080" cy="4319640"/>
          </a:xfrm>
          <a:prstGeom prst="hexagon">
            <a:avLst>
              <a:gd name="adj" fmla="val 34592"/>
              <a:gd name="vf" fmla="val 1154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Kristen ITC"/>
              </a:rPr>
              <a:t>Mettez les mo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Kristen ITC"/>
              </a:rPr>
              <a:t>dans la bon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Kristen ITC"/>
              </a:rPr>
              <a:t>catég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44360" y="0"/>
            <a:ext cx="1476360" cy="620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24360" y="0"/>
            <a:ext cx="1584360" cy="620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96000" y="0"/>
            <a:ext cx="1511280" cy="981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ve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979640" y="0"/>
            <a:ext cx="1512720" cy="620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ac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42920" y="12682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vais 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978200" y="1268280"/>
            <a:ext cx="151416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e ru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922560" y="12682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e foot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796000" y="1197000"/>
            <a:ext cx="1511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ron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7524720" y="0"/>
            <a:ext cx="1511280" cy="981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port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ss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7559640" y="12682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n av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142920" y="220680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ranç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3922560" y="2206800"/>
            <a:ext cx="14763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ire 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é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5796000" y="220680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all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7559640" y="220680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elle-m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978200" y="220500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é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922560" y="314172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ng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7559640" y="306864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on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108000" y="407844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a p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978200" y="30700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hô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5794200" y="2997360"/>
            <a:ext cx="1476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u b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e la 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08000" y="5014800"/>
            <a:ext cx="15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ir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’escal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887640" y="414972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7488360" y="414972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Á l’univers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1943280" y="407844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3887640" y="515952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e ma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7488360" y="5087880"/>
            <a:ext cx="14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lus t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142920" y="30700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a v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1943280" y="50878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éograp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5759280" y="5014800"/>
            <a:ext cx="1476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his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5759280" y="4078440"/>
            <a:ext cx="14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cin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7488360" y="616572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r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3"/>
          <p:cNvSpPr/>
          <p:nvPr/>
        </p:nvSpPr>
        <p:spPr>
          <a:xfrm>
            <a:off x="5724360" y="6021360"/>
            <a:ext cx="165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Quand j’au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ix-huit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3887640" y="616572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5"/>
          <p:cNvSpPr/>
          <p:nvPr/>
        </p:nvSpPr>
        <p:spPr>
          <a:xfrm>
            <a:off x="1943280" y="616572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us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6"/>
          <p:cNvSpPr/>
          <p:nvPr/>
        </p:nvSpPr>
        <p:spPr>
          <a:xfrm>
            <a:off x="108000" y="616572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nev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1476360" cy="620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780000" y="0"/>
            <a:ext cx="1584000" cy="620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651640" y="0"/>
            <a:ext cx="1511280" cy="981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ve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35280" y="0"/>
            <a:ext cx="1512720" cy="620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ac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411200"/>
            <a:ext cx="1476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vais 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835280" y="1413000"/>
            <a:ext cx="144144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e ru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3780000" y="1411200"/>
            <a:ext cx="147636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e foot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653080" y="1339920"/>
            <a:ext cx="151128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ron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380360" y="0"/>
            <a:ext cx="1511280" cy="981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port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ss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7416720" y="1411200"/>
            <a:ext cx="147636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n av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2133720"/>
            <a:ext cx="147636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ranç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780000" y="2133720"/>
            <a:ext cx="1476360" cy="57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ire 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é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5653080" y="2133720"/>
            <a:ext cx="147636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all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7416720" y="2133720"/>
            <a:ext cx="14763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elle-m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835280" y="2131920"/>
            <a:ext cx="1476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é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780000" y="2995560"/>
            <a:ext cx="1476360" cy="432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ng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7416720" y="2922480"/>
            <a:ext cx="147636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on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0" y="3645000"/>
            <a:ext cx="14763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a p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835280" y="2924280"/>
            <a:ext cx="14763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hô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651640" y="2851200"/>
            <a:ext cx="14763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u b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e la 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0" y="4437000"/>
            <a:ext cx="15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ir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’escal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3780000" y="3716280"/>
            <a:ext cx="147636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7380360" y="3716280"/>
            <a:ext cx="1476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 l’univers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1835280" y="3645000"/>
            <a:ext cx="14763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3780000" y="4581360"/>
            <a:ext cx="1476360" cy="432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e ma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7380360" y="4510080"/>
            <a:ext cx="1476360" cy="503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lus t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0" y="2924280"/>
            <a:ext cx="147636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a v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1835280" y="4510080"/>
            <a:ext cx="14763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éograp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5651640" y="4437000"/>
            <a:ext cx="1476360" cy="576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his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651640" y="3645000"/>
            <a:ext cx="147636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cin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7380360" y="5445000"/>
            <a:ext cx="147636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r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5508720" y="5373720"/>
            <a:ext cx="1619280" cy="647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Quand j’aur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ix-huit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780000" y="5445000"/>
            <a:ext cx="147636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1835280" y="5445000"/>
            <a:ext cx="147636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us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6"/>
          <p:cNvSpPr/>
          <p:nvPr/>
        </p:nvSpPr>
        <p:spPr>
          <a:xfrm>
            <a:off x="0" y="5445000"/>
            <a:ext cx="147636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nev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4"/>
          <p:cNvSpPr/>
          <p:nvPr/>
        </p:nvSpPr>
        <p:spPr>
          <a:xfrm>
            <a:off x="0" y="115920"/>
            <a:ext cx="586728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Kristen ITC"/>
              </a:rPr>
              <a:t>Ad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36520" y="1427040"/>
            <a:ext cx="1728720" cy="50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nnuy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é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xcel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y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our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e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r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02200" y="1427040"/>
            <a:ext cx="172872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a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por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ress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ti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oy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iffi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012000" y="115920"/>
            <a:ext cx="2808000" cy="792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Sawl un ydych chi’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gwyb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116080" y="1427040"/>
            <a:ext cx="2735280" cy="505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937200" y="1427040"/>
            <a:ext cx="2098800" cy="489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4"/>
          <p:cNvSpPr/>
          <p:nvPr/>
        </p:nvSpPr>
        <p:spPr>
          <a:xfrm>
            <a:off x="0" y="115920"/>
            <a:ext cx="586728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Kristen ITC"/>
              </a:rPr>
              <a:t>Ad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50920" y="1417680"/>
            <a:ext cx="1728720" cy="50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nnuy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é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xcel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y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our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e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r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003640" y="1427040"/>
            <a:ext cx="17290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a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por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ress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ti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oy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iffi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012000" y="115920"/>
            <a:ext cx="2808000" cy="792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Sawl un ydych chi’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gwyb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124000" y="1413000"/>
            <a:ext cx="2735280" cy="5092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efnyddi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if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g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rdderch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ffantas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care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rw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Gwallt c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6804000" y="1427040"/>
            <a:ext cx="2232000" cy="4939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l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cyw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Kristen ITC"/>
              </a:rPr>
              <a:t>Hoff o chwara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i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sw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c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rhwy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ha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gw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no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ywi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nghyw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116000" y="333360"/>
            <a:ext cx="734364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Kristen ITC"/>
              </a:rPr>
              <a:t>Quels sont les antony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885240" y="1251000"/>
            <a:ext cx="208224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bla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a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touj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garç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ga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bon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paress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ennu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ple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81360" y="1268280"/>
            <a:ext cx="246708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ja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a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Il y a du sol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ch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travail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n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diffi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intére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Au revo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per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95640" y="1268280"/>
            <a:ext cx="115272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1116000" y="333360"/>
            <a:ext cx="734364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Kristen ITC"/>
              </a:rPr>
              <a:t>Quels sont les antony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85240" y="1251000"/>
            <a:ext cx="208224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bla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a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touj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garç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ga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bon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paress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ennu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ple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481360" y="1268280"/>
            <a:ext cx="246708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ja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a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Il y a du sol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ch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travail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n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diffi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intére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Au r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per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980160" y="1268280"/>
            <a:ext cx="105048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9:02:43Z</dcterms:created>
  <dc:creator>Nuala</dc:creator>
  <dc:description/>
  <dc:language>en-US</dc:language>
  <cp:lastModifiedBy>Mrs Evans</cp:lastModifiedBy>
  <cp:lastPrinted>2011-12-16T11:22:41Z</cp:lastPrinted>
  <dcterms:modified xsi:type="dcterms:W3CDTF">2013-04-29T12:16:44Z</dcterms:modified>
  <cp:revision>60</cp:revision>
  <dc:subject/>
  <dc:title>Slide 1</dc:title>
</cp:coreProperties>
</file>